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32E-75AF-4409-B137-7B59FF14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82A-E27E-46A0-96C5-6988F9F8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273-B511-47E3-AA1C-24EC8FB3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35E-D46C-4D18-AA64-35D16D7D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E89-0AB1-4F6B-BC74-AA596D6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14A-4B73-46F0-826E-7AE1E989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421-E342-49C0-B064-827F123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747-B38C-479F-9741-651AC0C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C0A-F7B0-4C1A-ABE0-97D9581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063-88BF-4040-B625-E962DA8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93A-DDFC-495D-B196-6FC4C9D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A18-20AC-4C56-9612-16404C06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69F-DF1A-470E-B6C1-78C03089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98100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¿Qué quieres hacer esta noch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50028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¿Te apetece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__ctl44_imgThmb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7272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581360"/>
            <a:ext cx="1612800" cy="1791000"/>
          </a:xfrm>
          <a:prstGeom prst="rect">
            <a:avLst/>
          </a:prstGeom>
          <a:ln w="0">
            <a:noFill/>
          </a:ln>
        </p:spPr>
      </p:pic>
      <p:pic>
        <p:nvPicPr>
          <p:cNvPr id="45" name="r__ctl21_imgThmb" descr=""/>
          <p:cNvPicPr/>
          <p:nvPr/>
        </p:nvPicPr>
        <p:blipFill>
          <a:blip r:embed="rId3"/>
          <a:stretch/>
        </p:blipFill>
        <p:spPr>
          <a:xfrm>
            <a:off x="4067280" y="4508640"/>
            <a:ext cx="1841400" cy="1892160"/>
          </a:xfrm>
          <a:prstGeom prst="rect">
            <a:avLst/>
          </a:prstGeom>
          <a:ln w="0">
            <a:noFill/>
          </a:ln>
        </p:spPr>
      </p:pic>
      <p:pic>
        <p:nvPicPr>
          <p:cNvPr id="46" name="r__ctl5_imgThmb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r__ctl26_imgThmb" descr=""/>
          <p:cNvPicPr/>
          <p:nvPr/>
        </p:nvPicPr>
        <p:blipFill>
          <a:blip r:embed="rId5"/>
          <a:stretch/>
        </p:blipFill>
        <p:spPr>
          <a:xfrm>
            <a:off x="7020000" y="2708280"/>
            <a:ext cx="1816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98100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Vale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¿</a:t>
            </a: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quieres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__ctl3_imgThmb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61136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r__ctl29_imgThmb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r__ctl0_imgThmb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15285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r__ctl1_imgThmb" descr=""/>
          <p:cNvPicPr/>
          <p:nvPr/>
        </p:nvPicPr>
        <p:blipFill>
          <a:blip r:embed="rId5"/>
          <a:stretch/>
        </p:blipFill>
        <p:spPr>
          <a:xfrm>
            <a:off x="7531200" y="2421000"/>
            <a:ext cx="1612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90792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2349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0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85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1.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9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09.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4581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2.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916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2.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357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14.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1800" y="404640"/>
            <a:ext cx="77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Arial"/>
              </a:rPr>
              <a:t>Perfecto.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A qué ho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136656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00360" y="7650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276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En el 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342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Delante del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86900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A la estac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62064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ntonces, hemos quedad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278136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det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ás del gimnas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393372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a las 11.3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01336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Comic Sans MS"/>
              </a:rPr>
              <a:t>Hasta lue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4:24:21Z</dcterms:created>
  <dc:creator>Chris Fuller</dc:creator>
  <dc:description/>
  <dc:language>en-US</dc:language>
  <cp:lastModifiedBy>Chris Fuller</cp:lastModifiedBy>
  <dcterms:modified xsi:type="dcterms:W3CDTF">2007-10-15T17:21:49Z</dcterms:modified>
  <cp:revision>6</cp:revision>
  <dc:subject/>
  <dc:title>Slide 1</dc:title>
</cp:coreProperties>
</file>